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26313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73260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17484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4149360" y="0"/>
            <a:ext cx="317484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261800" y="720360"/>
            <a:ext cx="48020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lick to move the slide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732960" y="4560480"/>
            <a:ext cx="586116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9120240"/>
            <a:ext cx="317484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4149360" y="9120240"/>
            <a:ext cx="317484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E6122-C47E-41AB-9B14-B0D0CB544F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26216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32960" y="4560480"/>
            <a:ext cx="586116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come and introduc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 teach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 has used a SMARTboard in their classroom  for 3 years or mo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has used a SMARTboard in their classroom  from 1-2 ye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doesn’t have a SMARTboard in their ro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7210-8C63-43AD-BB66-7C4DC4632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110880"/>
            <a:ext cx="716256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484800"/>
            <a:ext cx="76960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6E56-755C-490B-9374-F0668B0AE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110880"/>
            <a:ext cx="716256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555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295280"/>
            <a:ext cx="37555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484800"/>
            <a:ext cx="37555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484800"/>
            <a:ext cx="37555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306C-FAAF-4464-A48C-1C71BC05F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110880"/>
            <a:ext cx="716256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477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295280"/>
            <a:ext cx="2477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295280"/>
            <a:ext cx="2477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484800"/>
            <a:ext cx="2477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484800"/>
            <a:ext cx="2477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484800"/>
            <a:ext cx="2477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7120-ED93-4B64-9354-51792CEB1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4A149-2CD8-4E1E-8BB5-843F9EFB8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110880"/>
            <a:ext cx="716256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4AF42-B8A2-490A-A40A-D50713AE4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110880"/>
            <a:ext cx="716256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52296-F334-408F-BB12-093EF631D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110880"/>
            <a:ext cx="716256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55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295280"/>
            <a:ext cx="3755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EC06A-9581-4055-AEBA-AC2349E93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110880"/>
            <a:ext cx="716256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4FC05-A201-4A1E-852D-40637083F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533520" y="110880"/>
            <a:ext cx="7162560" cy="49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DB42B-1576-485C-972C-DE2839384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110880"/>
            <a:ext cx="716256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555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295280"/>
            <a:ext cx="3755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484800"/>
            <a:ext cx="37555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CCE10-2B03-441B-9998-E0A78A52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110880"/>
            <a:ext cx="716256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6F95-F888-449C-93FD-A8A812136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110880"/>
            <a:ext cx="716256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55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295280"/>
            <a:ext cx="37555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484800"/>
            <a:ext cx="37555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305CA-FE55-4E4A-9852-C8BEDC1D1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110880"/>
            <a:ext cx="716256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555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295280"/>
            <a:ext cx="37555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484800"/>
            <a:ext cx="76960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2B8B0-24A3-426A-A016-A393B530C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110880"/>
            <a:ext cx="716256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484800"/>
            <a:ext cx="76960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1D3C2-25B9-4A0E-8EFE-3BCF63CF2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110880"/>
            <a:ext cx="716256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555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295280"/>
            <a:ext cx="37555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484800"/>
            <a:ext cx="37555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484800"/>
            <a:ext cx="37555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80B42-EF07-4490-AE73-6DD769845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110880"/>
            <a:ext cx="716256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477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295280"/>
            <a:ext cx="2477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295280"/>
            <a:ext cx="2477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484800"/>
            <a:ext cx="2477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484800"/>
            <a:ext cx="2477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484800"/>
            <a:ext cx="2477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7F5F6-B2F8-409E-9E26-BA480BA75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110880"/>
            <a:ext cx="716256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2A98-635C-4F0E-B59C-696F2CFE4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110880"/>
            <a:ext cx="716256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55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295280"/>
            <a:ext cx="3755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0DBE-28EB-42A5-ADF5-60905DD65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110880"/>
            <a:ext cx="716256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32E7-2021-4B16-9C98-0807B3213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33520" y="110880"/>
            <a:ext cx="7162560" cy="49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B093-F1DA-4878-A5BA-EE536EE91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110880"/>
            <a:ext cx="716256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555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295280"/>
            <a:ext cx="3755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484800"/>
            <a:ext cx="37555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5B5F-B539-4CC0-BF95-D2B997C5F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110880"/>
            <a:ext cx="716256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55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295280"/>
            <a:ext cx="37555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484800"/>
            <a:ext cx="37555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359C-D138-4930-806F-BE6D9350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110880"/>
            <a:ext cx="716256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555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295280"/>
            <a:ext cx="37555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484800"/>
            <a:ext cx="76960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69A3-46BA-40B5-8EF6-81EF27ADA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3520" y="110880"/>
            <a:ext cx="716256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ffff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ffff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ffff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831AC-AD64-4C92-A0A9-5BFC9BBBC43C}" type="slidenum">
              <a:rPr b="0" lang="en-US" sz="1400" spc="-1" strike="noStrike">
                <a:solidFill>
                  <a:srgbClr val="ffff99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99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99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99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99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99"/>
                  </a:solidFill>
                  <a:latin typeface="Times New Roman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99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99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99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99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99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99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99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99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99"/>
                  </a:solidFill>
                  <a:latin typeface="Times New Roman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99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99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99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99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99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99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99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9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EA5C4-A280-4302-B573-879C1AEBD240}" type="slidenum">
              <a:rPr b="0" lang="en-US" sz="1400" spc="-1" strike="noStrike">
                <a:solidFill>
                  <a:srgbClr val="ffff99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99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99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99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99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99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99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99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99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99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99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ff99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99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99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99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99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deal.azed.gov/" TargetMode="External"/><Relationship Id="rId2" Type="http://schemas.openxmlformats.org/officeDocument/2006/relationships/hyperlink" Target="http://www.thinkfinity.org/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longwood.k12.ny.us/longsmart3.html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smarttech.com/trainingcenter/online/index.asp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2603520"/>
            <a:ext cx="9144000" cy="2425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Creating Interactive Lessons on the SMARTboard</a:t>
            </a:r>
            <a:endParaRPr b="0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304560" y="5334120"/>
            <a:ext cx="8839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mic Sans MS"/>
              </a:rPr>
              <a:t>Carl T. Smith School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lumm@isaacschools.org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110880"/>
            <a:ext cx="716256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99"/>
                </a:solidFill>
                <a:uFillTx/>
                <a:latin typeface="Comic Sans MS"/>
              </a:rPr>
              <a:t>SMART Notebook</a:t>
            </a:r>
            <a:endParaRPr b="0" lang="en-US" sz="4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2895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Comic Sans MS"/>
              </a:rPr>
              <a:t>Power lies in interactivity</a:t>
            </a:r>
            <a:endParaRPr b="0" lang="en-US" sz="2800" spc="-1" strike="noStrike">
              <a:solidFill>
                <a:srgbClr val="ffff99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Comic Sans MS"/>
              </a:rPr>
              <a:t>Can be used many ways</a:t>
            </a:r>
            <a:endParaRPr b="0" lang="en-US" sz="2800" spc="-1" strike="noStrike">
              <a:solidFill>
                <a:srgbClr val="ffff99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Graphic organizers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Internet activities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PowerPoint presentations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Peer editing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62" name=""/>
          <p:cNvSpPr/>
          <p:nvPr/>
        </p:nvSpPr>
        <p:spPr>
          <a:xfrm>
            <a:off x="2190600" y="19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63" name="smartboard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4057920" cy="3124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umm@isaacschools.org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110880"/>
            <a:ext cx="716256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99"/>
                </a:solidFill>
                <a:uFillTx/>
                <a:latin typeface="Comic Sans MS"/>
              </a:rPr>
              <a:t>How to Create a Lesson</a:t>
            </a:r>
            <a:endParaRPr b="0" lang="en-US" sz="4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Comic Sans MS"/>
              </a:rPr>
              <a:t>Think of your objectives</a:t>
            </a: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Comic Sans MS"/>
              </a:rPr>
              <a:t>How can you get students involved?</a:t>
            </a: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umm@isaacschools.org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520" y="110880"/>
            <a:ext cx="716256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99"/>
                </a:solidFill>
                <a:uFillTx/>
                <a:latin typeface="Comic Sans MS"/>
              </a:rPr>
              <a:t>Engaging Lessons</a:t>
            </a:r>
            <a:endParaRPr b="0" lang="en-US" sz="4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72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Goal is to get </a:t>
            </a:r>
            <a:r>
              <a:rPr b="0" lang="en-US" sz="2400" spc="-1" strike="noStrike" u="sng">
                <a:solidFill>
                  <a:srgbClr val="ffff99"/>
                </a:solidFill>
                <a:uFillTx/>
                <a:latin typeface="Comic Sans MS"/>
              </a:rPr>
              <a:t>them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 up to the board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Comic Sans MS"/>
              </a:rPr>
              <a:t>You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 know the material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Create task for them to do that requires manipulation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Have rest of class help person at board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09800" y="1295280"/>
            <a:ext cx="3771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Other students take turns at board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Have one student per day designated as “moderator” or “helper”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ffff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Comic Sans MS"/>
              </a:rPr>
              <a:t>Teacher on one side of board, student on other side</a:t>
            </a:r>
            <a:endParaRPr b="0" lang="en-US" sz="2000" spc="-1" strike="noStrike">
              <a:solidFill>
                <a:srgbClr val="ffff99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Scan in pictures or other resources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umm@isaacschools.org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110880"/>
            <a:ext cx="716256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99"/>
                </a:solidFill>
                <a:uFillTx/>
                <a:latin typeface="Comic Sans MS"/>
              </a:rPr>
              <a:t>Templates</a:t>
            </a:r>
            <a:endParaRPr b="0" lang="en-US" sz="4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1828800"/>
            <a:ext cx="8534520" cy="39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Comic Sans MS"/>
              </a:rPr>
              <a:t>Lots of templates found in Design Gallery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Comic Sans MS"/>
              </a:rPr>
              <a:t>Can find more on the SmartTech site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umm@isaacschools.org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110880"/>
            <a:ext cx="716256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99"/>
                </a:solidFill>
                <a:uFillTx/>
                <a:latin typeface="Comic Sans MS"/>
              </a:rPr>
              <a:t>Websites to Explore</a:t>
            </a:r>
            <a:endParaRPr b="0" lang="en-US" sz="4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IDEAL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 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ea typeface="Times New Roman"/>
                <a:hlinkClick r:id="rId1"/>
              </a:rPr>
              <a:t>http://www.ideal.azed.gov</a:t>
            </a:r>
            <a:endParaRPr b="0" lang="en-US" sz="2800" spc="-1" strike="noStrike">
              <a:solidFill>
                <a:srgbClr val="ffff99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ffff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og in and Find Curriculum Resources on the left side</a:t>
            </a:r>
            <a:endParaRPr b="0" lang="en-US" sz="2000" spc="-1" strike="noStrike">
              <a:solidFill>
                <a:srgbClr val="ffff99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Discovery Education has outstanding resources for students and teachers</a:t>
            </a:r>
            <a:endParaRPr b="0" lang="en-US" sz="2000" spc="-1" strike="noStrike">
              <a:solidFill>
                <a:srgbClr val="ffff99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Thinkfinity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ea typeface="Times New Roman"/>
                <a:hlinkClick r:id="rId2"/>
              </a:rPr>
              <a:t>http://www.thinkfinity.org/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is site is available for students, parents, and   teachers</a:t>
            </a:r>
            <a:endParaRPr b="0" lang="en-US" sz="2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umm@isaacschools.org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110880"/>
            <a:ext cx="716256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99"/>
                </a:solidFill>
                <a:uFillTx/>
                <a:latin typeface="Comic Sans MS"/>
              </a:rPr>
              <a:t>Interactive Whiteboard Resources</a:t>
            </a:r>
            <a:endParaRPr b="0" lang="en-US" sz="4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Teacher created lessons</a:t>
            </a: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esources and Lesson Plans- Amphi District- Tucson</a:t>
            </a: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ore Resources to Explore</a:t>
            </a: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umm@isaacschools.org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110880"/>
            <a:ext cx="716256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99"/>
                </a:solidFill>
                <a:uFillTx/>
                <a:latin typeface="Comic Sans MS"/>
              </a:rPr>
              <a:t>Learn Online</a:t>
            </a:r>
            <a:endParaRPr b="0" lang="en-US" sz="4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Comic Sans MS"/>
              </a:rPr>
              <a:t>SMART online orientation sessions</a:t>
            </a: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40-minute computer and telephone conferences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No-cost overview of the basics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Led by a SMART trainer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Comic Sans MS"/>
              </a:rPr>
              <a:t>To register, go to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http://www.smarttech.com/training center/online/index.asp</a:t>
            </a: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umm@isaacschools.org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110880"/>
            <a:ext cx="716256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99"/>
                </a:solidFill>
                <a:uFillTx/>
                <a:latin typeface="Comic Sans MS"/>
              </a:rPr>
              <a:t>More to Learn and Explore</a:t>
            </a:r>
            <a:endParaRPr b="0" lang="en-US" sz="4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Comic Sans MS"/>
              </a:rPr>
              <a:t>Visit</a:t>
            </a: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Comic Sans MS"/>
              </a:rPr>
              <a:t>Edtech4az wiki</a:t>
            </a: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Comic Sans MS"/>
              </a:rPr>
              <a:t>Resources from this presentation and more</a:t>
            </a:r>
            <a:endParaRPr b="0" lang="en-US" sz="3600" spc="-1" strike="noStrike">
              <a:solidFill>
                <a:srgbClr val="ffff99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umm@isaacschools.org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2T17:41:36Z</dcterms:created>
  <dc:creator>Kathy Wagoner</dc:creator>
  <dc:description/>
  <dc:language>en-US</dc:language>
  <cp:lastModifiedBy>alumm</cp:lastModifiedBy>
  <dcterms:modified xsi:type="dcterms:W3CDTF">2010-03-25T17:48:21Z</dcterms:modified>
  <cp:revision>65</cp:revision>
  <dc:subject/>
  <dc:title>Get Smart</dc:title>
</cp:coreProperties>
</file>